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4DD-B421-4B4D-BA8A-976FA1DA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581-61F3-4F40-BA42-C3A09BCD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13F-0536-476F-80F2-098D3B30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6CD-8110-4D19-89A0-39F8FE54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6D3E-765E-467E-BF6F-499F1789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0029-970A-4F36-9C10-19403B12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304D-C83E-449C-8AB7-C4EDBC1C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AB4A-BA51-4A60-A58A-AB936091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18DB-BA39-40E0-AF85-F90DE321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01B1-8D6F-477D-B5DB-603E4175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FE48-0831-4547-9E3D-A11996CC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B48-82B7-4541-A01C-50FF82A8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3F1E-47BE-499D-9AF0-485C0D76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D680-2DCE-45A0-AD5E-4D685799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9D60-22B3-4C14-9193-FE9835A2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E7F6-5999-46AD-A833-8B9C633D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BC99-8916-4397-A3C6-B1669128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655D-F5A8-4B66-A5AA-000B36C5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97A2-D70E-421D-AB95-511F6511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041FA-ED5B-42F6-B887-B71EBCD6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AACA-5130-410D-8AA7-4A04A8A0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063F-FB78-4347-8B19-F854DDCC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202-1038-42AD-9E2C-6FAC62DE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15D77-81E9-4CCE-8225-DE04737A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94BE-E87C-4F9F-848F-B2DC31D5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8D27-4A63-4C5A-B3D5-23EB6CE0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1550-5C68-4603-9B63-7A096E75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00B4-23BC-4724-BC04-06AE8C31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D0FB-EA46-44CB-8A12-21593031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34B8-70A5-49CB-A0C9-EDD1D666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A1F2-BD53-45E5-ADD8-B3C467DB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CCD1-54E9-42AB-A03A-131B9FCD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BA393-D71F-4C3A-BA7A-074C182A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48E-AF75-4E1B-8232-B4CFCA40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C59E0-221D-4CDC-BFA8-ED540CEA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F6503-FE89-4ED7-AEC8-3EB73C0C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07553-310A-4F1C-9532-BC13C8E9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87946-4591-4B52-B125-9D97C6D0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F6442-F5D0-4983-8ECB-10F19A6F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8AEB5-6313-4940-B88E-F403FBEB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3F631-2D73-4603-B95E-145C8583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130B4-85F1-46FF-9D61-08DFE780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FA1B0-5E2F-495C-AC5A-474322C0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598B-A67D-4DD8-B056-249093C8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A3C-EDB7-42E9-BB7A-1FCBDFE6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6A27-B4F3-433D-8EE7-A21B5EE9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29949-CD6D-499F-9825-52472D95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A3FB0-BA27-44F6-8DB8-48C5A0C6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2DD3-8415-48F3-83D3-CC5A72FC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3BDA-C6E9-41C0-B35C-87537154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F53C0-3EEA-474F-BC32-86B7AC80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2AE98-3223-436A-B6D0-58FD650C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7F8B-0D79-4AF4-938A-6B792988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37235-ED84-4F4B-A8E7-04E577C6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DD772-5F52-47AC-B979-92403DA0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E72-21D6-4BDA-BCB9-6E2D7AB8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6DFE9-446C-4593-A7F4-7F002CB9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F9C32-4275-4966-8EE2-D09E607E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A6529-5603-4B33-89F7-874EAEDE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BBCCC-68A5-4E8F-9083-F13261F5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F33C3-EADA-4283-A3A5-9A8453D3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4BE30-2EA9-47B2-A99D-B586CDBB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6EDE0-1BB7-4C30-9E0C-E11F3027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FBCAB-727E-4B20-81D0-4CBD31C3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BB569-B106-42CF-8EC4-D3664082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3167A-218C-40D0-BE3A-1A8B055D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58B-9BBC-411A-8D0E-6A3FEEC4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E2331-717B-4D15-9E9A-EAC6751E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7AD0C-5AD4-4DEE-B2FA-F2D75D40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8B2DC-1C8D-4F7F-9DA0-795EAEBD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EE7E5-56BF-410C-A42D-BD9F31BD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8E0C0-C9F4-412E-BC3F-90EE970E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CC0D4-D73C-49ED-A4DA-FEB98FDF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C0423-D751-4230-A393-7A088CF2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CD800-1E92-452C-A22D-FEB98A2C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B0689-E116-4C86-A281-DD7757E6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C7873-8A9B-4ED9-90B9-AE7CE976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AD0-7301-4D0E-A20C-52B15A5F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C74E4-0C4F-4A98-8A37-889F77B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3BB9A-570D-4992-8EE5-3E372F07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F1E41-A60A-43DF-8263-C137A83B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0FE94-5998-4C15-89E1-5EE23084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CF60D-AD5E-4487-8DF2-698B1145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3CD-B474-4F2F-8016-AE987074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CF09-4C8F-4293-A87D-26451B6B7AA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E877-A56D-4BD3-812B-385967C861C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948F-75CD-4DED-AFD5-ACA095AADCC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04F8-3668-4434-8676-3A3153C46E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7830-176D-44C1-8C7A-45C3D3C9125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C99D-C19C-4877-8333-8A08D474F8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C2D5-D893-47AE-93EB-91496667C3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571560" y="1356840"/>
            <a:ext cx="492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Когда появилась функция</a:t>
            </a:r>
            <a:r>
              <a:rPr b="1" lang="en-US" sz="8000" spc="-1" strike="noStrike">
                <a:solidFill>
                  <a:srgbClr val="ff0000"/>
                </a:solidFill>
                <a:latin typeface="Monotype Corsiv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Рисунок 3" descr="texto_parabola-do-filho-prodigofontemonotypecorsiva.jpg"/>
          <p:cNvPicPr/>
          <p:nvPr/>
        </p:nvPicPr>
        <p:blipFill>
          <a:blip r:embed="rId2"/>
          <a:stretch/>
        </p:blipFill>
        <p:spPr>
          <a:xfrm>
            <a:off x="1000080" y="285840"/>
            <a:ext cx="25718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285560" y="213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ь к появлению понятия функ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ложили в 17 веке французские уче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рансуа Виет и Рене Декарт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C:\Documents and Settings\Admin\Рабочий стол\ИКТО\Декарт.jpg"/>
          <p:cNvPicPr/>
          <p:nvPr/>
        </p:nvPicPr>
        <p:blipFill>
          <a:blip r:embed="rId2"/>
          <a:stretch/>
        </p:blipFill>
        <p:spPr>
          <a:xfrm>
            <a:off x="5643720" y="1857240"/>
            <a:ext cx="2214360" cy="2571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Documents and Settings\Admin\Рабочий стол\ИКТО\1ANKEACA2SYPQ1CA3JDTDBCAOM5ABDCAVBW4R6CA6ZX5P8CADN3JECCATXGS7YCA0H7OFTCA0XXKZKCAG3L037CAR4I9ACCARCXM5JCAI1ZTKACA3NAEJ2CAZEWZ38CA3T0OJ7CAGC337ZCAM3A47PCAGIVVHM.jpg"/>
          <p:cNvPicPr/>
          <p:nvPr/>
        </p:nvPicPr>
        <p:blipFill>
          <a:blip r:embed="rId3"/>
          <a:stretch/>
        </p:blipFill>
        <p:spPr>
          <a:xfrm>
            <a:off x="2214720" y="1857240"/>
            <a:ext cx="2143080" cy="3041640"/>
          </a:xfrm>
          <a:prstGeom prst="rect">
            <a:avLst/>
          </a:prstGeom>
          <a:ln w="0">
            <a:noFill/>
          </a:ln>
        </p:spPr>
      </p:pic>
      <p:sp>
        <p:nvSpPr>
          <p:cNvPr id="323" name="TextBox 5"/>
          <p:cNvSpPr/>
          <p:nvPr/>
        </p:nvSpPr>
        <p:spPr>
          <a:xfrm>
            <a:off x="681120" y="4786200"/>
            <a:ext cx="82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ни разработали единую букве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тематическую символику, кото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скоре получила всеобщее призн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6"/>
          <p:cNvSpPr/>
          <p:nvPr/>
        </p:nvSpPr>
        <p:spPr>
          <a:xfrm>
            <a:off x="2000160" y="414324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рансуа Ви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7"/>
          <p:cNvSpPr/>
          <p:nvPr/>
        </p:nvSpPr>
        <p:spPr>
          <a:xfrm>
            <a:off x="5533200" y="442908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ене Де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071600" y="285840"/>
            <a:ext cx="48625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амо слово </a:t>
            </a:r>
            <a:r>
              <a:rPr b="0" lang="ru-RU" sz="3000" spc="-1" strike="noStrike">
                <a:solidFill>
                  <a:srgbClr val="7030a0"/>
                </a:solidFill>
                <a:latin typeface="Corbel"/>
              </a:rPr>
              <a:t>“функция”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первые было  употреблено немецким математиком Лейбницем в 1673г. в письме к Гюйгенсу (Лейбниц употреблял функцию в смысле роли(величина, выполняющая ту или иную функцию)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3" descr="C:\Documents and Settings\Admin\Рабочий стол\ИКТО\Лейб.jpg"/>
          <p:cNvPicPr/>
          <p:nvPr/>
        </p:nvPicPr>
        <p:blipFill>
          <a:blip r:embed="rId2"/>
          <a:stretch/>
        </p:blipFill>
        <p:spPr>
          <a:xfrm>
            <a:off x="974880" y="334800"/>
            <a:ext cx="2974680" cy="3835440"/>
          </a:xfrm>
          <a:prstGeom prst="rect">
            <a:avLst/>
          </a:prstGeom>
          <a:ln w="0">
            <a:noFill/>
          </a:ln>
        </p:spPr>
      </p:pic>
      <p:sp>
        <p:nvSpPr>
          <p:cNvPr id="328" name="TextBox 20"/>
          <p:cNvSpPr/>
          <p:nvPr/>
        </p:nvSpPr>
        <p:spPr>
          <a:xfrm>
            <a:off x="1571760" y="414324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ейб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C:\Documents and Settings\Admin\Рабочий стол\ИКТО\Гюйгенс.jpg"/>
          <p:cNvPicPr/>
          <p:nvPr/>
        </p:nvPicPr>
        <p:blipFill>
          <a:blip r:embed="rId3"/>
          <a:stretch/>
        </p:blipFill>
        <p:spPr>
          <a:xfrm>
            <a:off x="6456240" y="3749760"/>
            <a:ext cx="2590920" cy="30049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24"/>
          <p:cNvSpPr/>
          <p:nvPr/>
        </p:nvSpPr>
        <p:spPr>
          <a:xfrm>
            <a:off x="7072200" y="6357960"/>
            <a:ext cx="149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юйге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5:57:42Z</dcterms:created>
  <dc:creator>Игорь</dc:creator>
  <dc:description/>
  <dc:language>en-US</dc:language>
  <cp:lastModifiedBy>TIGROID</cp:lastModifiedBy>
  <dcterms:modified xsi:type="dcterms:W3CDTF">2010-06-03T12:49:51Z</dcterms:modified>
  <cp:revision>30</cp:revision>
  <dc:subject/>
  <dc:title>Слайд 1</dc:title>
</cp:coreProperties>
</file>